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C1B-CFEF-4E3F-B41D-F7CF487D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FB7-2FCB-46A9-8B03-BF698DB0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63D-D88F-4A02-A19B-AAF18075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17D-F830-441E-BEEF-EF3F183B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79B-9C41-436A-B371-4D8C297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E28-B1EE-4405-96BA-D8DD6F0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C2C-D6F5-4CEF-BE4C-4A4326AB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ECB-236C-4496-BB43-D7D4235F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8C0-2C2D-42B0-BBB3-C15C62DC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855-D06F-413E-BA43-29F5376C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3B6-F5F3-4E31-8D08-7E874ECE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D95-0790-47BC-83BF-952DED6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53C0-1EB7-42BD-81A8-AF769ACB721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sumowanie wyników ankie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sowanie języka haseł przedmiotowych Biblioteki Narodowej w katalogach bibliot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43120" y="208080"/>
            <a:ext cx="58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33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1680" y="260280"/>
            <a:ext cx="7755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I Ogólnopolskie Warsztat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ęzyki informacyjno-wyszukiwawcze – teraźniejszość i przyszłoś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ęzyk haseł przedmiotowych Biblioteki Narodowej - nowe słownictwo, najnowsze ustalenia metodycz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osowanie w katalogach bibliot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wersalna Klasyfikacja Dziesiętna - problemy metodyczne i propozycje tworz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harakterystyk wyszukiwawcz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w bibliotece korzysta się z kartoteki wzorcowej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HP BN dostępnej w witrynie B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335640" cy="377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395280" y="5445000"/>
          <a:ext cx="8424720" cy="1127160"/>
        </p:xfrm>
        <a:graphic>
          <a:graphicData uri="http://schemas.openxmlformats.org/drawingml/2006/table">
            <a:tbl>
              <a:tblPr/>
              <a:tblGrid>
                <a:gridCol w="1579680"/>
                <a:gridCol w="1574640"/>
                <a:gridCol w="1575000"/>
                <a:gridCol w="1574640"/>
                <a:gridCol w="2120760"/>
              </a:tblGrid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w bibliotece korzysta się z kartoteki wzorcowej JHP BN dostępnej w katalogu centralnym NUK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6048360" cy="362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68360" y="5373720"/>
          <a:ext cx="8280360" cy="10620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3960"/>
                <a:gridCol w="1629000"/>
                <a:gridCol w="1771560"/>
              </a:tblGrid>
              <a:tr h="36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dla biblioteki przydatny jest dostęp do haseł rozwiniętych JHP BN w katalogu centralnym NUK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191280" cy="37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95280" y="5373720"/>
          <a:ext cx="8209080" cy="1047600"/>
        </p:xfrm>
        <a:graphic>
          <a:graphicData uri="http://schemas.openxmlformats.org/drawingml/2006/table">
            <a:tbl>
              <a:tblPr/>
              <a:tblGrid>
                <a:gridCol w="1643040"/>
                <a:gridCol w="1641600"/>
                <a:gridCol w="1639800"/>
                <a:gridCol w="1641600"/>
                <a:gridCol w="1643040"/>
              </a:tblGrid>
              <a:tr h="34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biblioteka korzysta z możliwości pobierania plików aktualizacyjnych JHP BN z serwera B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6121440" cy="381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324000" y="5445000"/>
          <a:ext cx="8495640" cy="968400"/>
        </p:xfrm>
        <a:graphic>
          <a:graphicData uri="http://schemas.openxmlformats.org/drawingml/2006/table">
            <a:tbl>
              <a:tblPr/>
              <a:tblGrid>
                <a:gridCol w="1672560"/>
                <a:gridCol w="1672560"/>
                <a:gridCol w="1667520"/>
                <a:gridCol w="1672560"/>
                <a:gridCol w="1810440"/>
              </a:tblGrid>
              <a:tr h="32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biblioteka korzysta z możliwości pobierania plików aktualizacyjnych JHP BN z serwera NUK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408720" cy="383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395280" y="5445000"/>
          <a:ext cx="8424000" cy="1041480"/>
        </p:xfrm>
        <a:graphic>
          <a:graphicData uri="http://schemas.openxmlformats.org/drawingml/2006/table">
            <a:tbl>
              <a:tblPr/>
              <a:tblGrid>
                <a:gridCol w="1685160"/>
                <a:gridCol w="1685880"/>
                <a:gridCol w="1681920"/>
                <a:gridCol w="1685160"/>
                <a:gridCol w="1685880"/>
              </a:tblGrid>
              <a:tr h="34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w bibliotece korzystano z informacji i wskazówek metodycznych zawartych w biuletynie JHP BN dołączanym jako wkładka do wersji drukowanej Przewodnika bibliograficzn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37080" cy="366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468360" y="5661000"/>
          <a:ext cx="8209080" cy="914400"/>
        </p:xfrm>
        <a:graphic>
          <a:graphicData uri="http://schemas.openxmlformats.org/drawingml/2006/table">
            <a:tbl>
              <a:tblPr/>
              <a:tblGrid>
                <a:gridCol w="2052720"/>
                <a:gridCol w="2052360"/>
                <a:gridCol w="2051280"/>
                <a:gridCol w="205272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bibliotece korzystano z wykazów nowych haseł i wskazówek metodycznych zamieszczonych w witrynie BN (Dla bibliotekarzy &gt; JHP B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264360" cy="374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68360" y="5516640"/>
          <a:ext cx="8362080" cy="968400"/>
        </p:xfrm>
        <a:graphic>
          <a:graphicData uri="http://schemas.openxmlformats.org/drawingml/2006/table">
            <a:tbl>
              <a:tblPr/>
              <a:tblGrid>
                <a:gridCol w="1672560"/>
                <a:gridCol w="1673640"/>
                <a:gridCol w="1669680"/>
                <a:gridCol w="1672920"/>
                <a:gridCol w="1673280"/>
              </a:tblGrid>
              <a:tr h="32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opisy przedmiotowe w katalogu komputerowym biblioteki, w której Pani/Pan pracuje są poprawiane w związku z wprowadzeniem do Słownika JHP BN nowych tematów, nowych określników, zmianą metodyk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688360" cy="34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39640" y="5516640"/>
          <a:ext cx="8208720" cy="969840"/>
        </p:xfrm>
        <a:graphic>
          <a:graphicData uri="http://schemas.openxmlformats.org/drawingml/2006/table">
            <a:tbl>
              <a:tblPr/>
              <a:tblGrid>
                <a:gridCol w="1642680"/>
                <a:gridCol w="1642680"/>
                <a:gridCol w="1638000"/>
                <a:gridCol w="1642680"/>
                <a:gridCol w="1642680"/>
              </a:tblGrid>
              <a:tr h="32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tóre zagadnienia wymagają wprowadzenia do Słownika JHP BN bardziej szczegółowych tematów i określników oraz zmiany metodyki?</a:t>
            </a:r>
            <a:br>
              <a:rPr sz="40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tóre z zagadnień JHP BN wymagają omówienia w publikacjach i podczas warsztat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czegółowość słownic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wocześnienie słownic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jednolicenie słownictwa i zas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ziękuję!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54450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tłomiej Włodarczyk (b.wlodarczyk@bn.org.p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777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 bibliote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5640" y="5445000"/>
          <a:ext cx="7920000" cy="1176480"/>
        </p:xfrm>
        <a:graphic>
          <a:graphicData uri="http://schemas.openxmlformats.org/drawingml/2006/table">
            <a:tbl>
              <a:tblPr/>
              <a:tblGrid>
                <a:gridCol w="1589040"/>
                <a:gridCol w="1293840"/>
                <a:gridCol w="1943280"/>
                <a:gridCol w="1658880"/>
                <a:gridCol w="1434960"/>
              </a:tblGrid>
              <a:tr h="393480"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agogi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demic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5400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am komputerowy, w którym prowadzony jest katalog biblioteczny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4751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oprócz JHP BN biblioteka stosuje w katalogu inny język informacyjno-wyszukiwawczy, tezaurus czy system słów kluczowy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840720" cy="334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95280" y="5300640"/>
          <a:ext cx="8353440" cy="1080720"/>
        </p:xfrm>
        <a:graphic>
          <a:graphicData uri="http://schemas.openxmlformats.org/drawingml/2006/table">
            <a:tbl>
              <a:tblPr/>
              <a:tblGrid>
                <a:gridCol w="1673280"/>
                <a:gridCol w="1673280"/>
                <a:gridCol w="1660320"/>
                <a:gridCol w="1673280"/>
                <a:gridCol w="1673280"/>
              </a:tblGrid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eśli tak, proszę podać, jak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5229360"/>
          <a:ext cx="8496000" cy="1380960"/>
        </p:xfrm>
        <a:graphic>
          <a:graphicData uri="http://schemas.openxmlformats.org/drawingml/2006/table">
            <a:tbl>
              <a:tblPr/>
              <a:tblGrid>
                <a:gridCol w="1415880"/>
                <a:gridCol w="1416240"/>
                <a:gridCol w="1415880"/>
                <a:gridCol w="1415880"/>
                <a:gridCol w="1416240"/>
                <a:gridCol w="1415880"/>
              </a:tblGrid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słów kluczow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cowany przez sie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 pod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69780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w katalogu komputerowym biblioteki w której Pani/Pan pracuje w indeksie przedmiotowym: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) funkcjonuje kartoteka haseł wzorcowych JHP B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688000" cy="340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39640" y="5373720"/>
          <a:ext cx="8208720" cy="1165320"/>
        </p:xfrm>
        <a:graphic>
          <a:graphicData uri="http://schemas.openxmlformats.org/drawingml/2006/table">
            <a:tbl>
              <a:tblPr/>
              <a:tblGrid>
                <a:gridCol w="1643760"/>
                <a:gridCol w="1641960"/>
                <a:gridCol w="1637280"/>
                <a:gridCol w="1641960"/>
                <a:gridCol w="16437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) funkcjonują w indeksie odsyłacze całkowit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624720" cy="414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95280" y="5516640"/>
          <a:ext cx="8424360" cy="974520"/>
        </p:xfrm>
        <a:graphic>
          <a:graphicData uri="http://schemas.openxmlformats.org/drawingml/2006/table">
            <a:tbl>
              <a:tblPr/>
              <a:tblGrid>
                <a:gridCol w="1684440"/>
                <a:gridCol w="1686240"/>
                <a:gridCol w="1683000"/>
                <a:gridCol w="1686240"/>
                <a:gridCol w="1684440"/>
              </a:tblGrid>
              <a:tr h="32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czy brak jest w indeksie przedmiotowym odsyłacz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40720" cy="409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95280" y="5445000"/>
          <a:ext cx="8353080" cy="1041480"/>
        </p:xfrm>
        <a:graphic>
          <a:graphicData uri="http://schemas.openxmlformats.org/drawingml/2006/table">
            <a:tbl>
              <a:tblPr/>
              <a:tblGrid>
                <a:gridCol w="1655280"/>
                <a:gridCol w="1655640"/>
                <a:gridCol w="1654200"/>
                <a:gridCol w="1655640"/>
                <a:gridCol w="1732320"/>
              </a:tblGrid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zy w bibliotece korzysta się z drukowanego słownika JHP B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408720" cy="383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95280" y="5516640"/>
          <a:ext cx="8424720" cy="1074600"/>
        </p:xfrm>
        <a:graphic>
          <a:graphicData uri="http://schemas.openxmlformats.org/drawingml/2006/table">
            <a:tbl>
              <a:tblPr/>
              <a:tblGrid>
                <a:gridCol w="1685880"/>
                <a:gridCol w="1687680"/>
                <a:gridCol w="1677960"/>
                <a:gridCol w="1687320"/>
                <a:gridCol w="168588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odpowiedz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biblio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6:16:22Z</dcterms:created>
  <dc:creator>b.wlodarczyk</dc:creator>
  <dc:description/>
  <dc:language>en-US</dc:language>
  <cp:lastModifiedBy>a.borowska</cp:lastModifiedBy>
  <dcterms:modified xsi:type="dcterms:W3CDTF">2009-06-01T13:35:51Z</dcterms:modified>
  <cp:revision>38</cp:revision>
  <dc:subject/>
  <dc:title>Podsumowanie wyników ankiety:</dc:title>
</cp:coreProperties>
</file>